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25.png" ContentType="image/png"/>
  <Override PartName="/ppt/media/image2.gif" ContentType="image/gif"/>
  <Override PartName="/ppt/media/image10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png" ContentType="image/png"/>
  <Override PartName="/ppt/media/image30.gif" ContentType="image/gif"/>
  <Override PartName="/ppt/media/image2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47A-F4CB-42C3-BF5E-6CB0B307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867-E4C2-4E84-9324-1241C9F7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494-1AA6-4DD9-9F87-5BC6D7C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75E-D6E6-4C8E-8598-1288B25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717-4280-48B6-A96E-AC4BAB1F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874-E1BE-4538-839B-01D27C1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5F0-64A8-44A3-9A6B-68A4C5CD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49B-38DE-459C-BB35-A1A25473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16F-90E8-42CE-B1D8-AB12B0E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197-351D-48D4-81FB-058E0C3B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C47-6D09-4FB6-8182-62B0F1F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4E0-8C7F-4B50-B3F7-8FD452F5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EA4B-233A-470A-B784-734FFB388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框"/>
          <p:cNvPicPr/>
          <p:nvPr/>
        </p:nvPicPr>
        <p:blipFill>
          <a:blip r:embed="rId1"/>
          <a:stretch/>
        </p:blipFill>
        <p:spPr>
          <a:xfrm>
            <a:off x="1305000" y="2136600"/>
            <a:ext cx="6632640" cy="20829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1351080" y="3162240"/>
            <a:ext cx="641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统计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1069920" y="2435400"/>
            <a:ext cx="71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十章  数据的收集、整理与描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提示"/>
          <p:cNvPicPr/>
          <p:nvPr/>
        </p:nvPicPr>
        <p:blipFill>
          <a:blip r:embed="rId2"/>
          <a:stretch/>
        </p:blipFill>
        <p:spPr>
          <a:xfrm>
            <a:off x="6095880" y="838080"/>
            <a:ext cx="259092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1468523_205544212133_21"/>
          <p:cNvPicPr/>
          <p:nvPr/>
        </p:nvPicPr>
        <p:blipFill>
          <a:blip r:embed="rId3"/>
          <a:stretch/>
        </p:blipFill>
        <p:spPr>
          <a:xfrm>
            <a:off x="8315280" y="701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231920" y="3195720"/>
            <a:ext cx="71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抽样调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这样一种方法，它只抽取一部分对象进行调查，然后根据调查数据推断全体对象的情况．要考察的全体对象称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组成总体的每一个考察对象称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个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被抽取的那些个体构成总体的一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样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图片4"/>
          <p:cNvPicPr/>
          <p:nvPr/>
        </p:nvPicPr>
        <p:blipFill>
          <a:blip r:embed="rId1"/>
          <a:stretch/>
        </p:blipFill>
        <p:spPr>
          <a:xfrm>
            <a:off x="763560" y="1047600"/>
            <a:ext cx="237636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878040" y="1600200"/>
            <a:ext cx="7376760" cy="1574640"/>
            <a:chOff x="878040" y="1600200"/>
            <a:chExt cx="7376760" cy="1574640"/>
          </a:xfrm>
        </p:grpSpPr>
        <p:sp>
          <p:nvSpPr>
            <p:cNvPr id="127" name="AutoShape 3"/>
            <p:cNvSpPr/>
            <p:nvPr/>
          </p:nvSpPr>
          <p:spPr>
            <a:xfrm>
              <a:off x="878040" y="1600200"/>
              <a:ext cx="7376760" cy="157464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"/>
            <p:cNvSpPr/>
            <p:nvPr/>
          </p:nvSpPr>
          <p:spPr>
            <a:xfrm>
              <a:off x="1871280" y="1771560"/>
              <a:ext cx="5248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抽取多少名学生进行调查比较合适？被调查的学生又如何抽取呢？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652320" y="3276720"/>
            <a:ext cx="788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抽取的学生人数很少，那么样本就不能很好地反映总体的情况．如果抽取的学生人数很多，必然花费大量的时间精力，达不到省时省力的目的．因此抽取的学生数目要适当．样本中包含的个体数目称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样本容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本问题可以抽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同学，即样本容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问题探究"/>
          <p:cNvPicPr/>
          <p:nvPr/>
        </p:nvPicPr>
        <p:blipFill>
          <a:blip r:embed="rId1"/>
          <a:stretch/>
        </p:blipFill>
        <p:spPr>
          <a:xfrm>
            <a:off x="822240" y="998640"/>
            <a:ext cx="1965240" cy="4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687240" y="2251080"/>
            <a:ext cx="801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了使样本能较好地反映总体情况，除了有合适的样本容量外，抽取时还要尽量使每一个个体有相等的机会被抽到．例如，可以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的注册学号中，随意抽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学号，调查这些学号对应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79360" y="2443320"/>
          <a:ext cx="6910560" cy="3151080"/>
        </p:xfrm>
        <a:graphic>
          <a:graphicData uri="http://schemas.openxmlformats.org/drawingml/2006/table">
            <a:tbl>
              <a:tblPr/>
              <a:tblGrid>
                <a:gridCol w="1737000"/>
                <a:gridCol w="2266920"/>
                <a:gridCol w="1555560"/>
                <a:gridCol w="135108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节目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划 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人 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百分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A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新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B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体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正正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C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动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正正正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D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娱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正正正正正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E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戏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44"/>
          <p:cNvSpPr/>
          <p:nvPr/>
        </p:nvSpPr>
        <p:spPr>
          <a:xfrm>
            <a:off x="1147680" y="1809720"/>
            <a:ext cx="72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样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最喜爱的电视节目的人数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4071960" y="290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1162080" y="10368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表中你可以看出什么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4235400" y="300672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4514760" y="34797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>
            <a:off x="4591080" y="3476520"/>
            <a:ext cx="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0"/>
          <p:cNvSpPr/>
          <p:nvPr/>
        </p:nvSpPr>
        <p:spPr>
          <a:xfrm>
            <a:off x="4629240" y="391788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1"/>
          <p:cNvSpPr/>
          <p:nvPr/>
        </p:nvSpPr>
        <p:spPr>
          <a:xfrm>
            <a:off x="4724280" y="391788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4667400" y="3971880"/>
            <a:ext cx="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4727520" y="397836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4808520" y="436896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903920" y="436896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4906800" y="442908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5"/>
          <p:cNvSpPr/>
          <p:nvPr/>
        </p:nvSpPr>
        <p:spPr>
          <a:xfrm>
            <a:off x="852480" y="1870200"/>
            <a:ext cx="759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表格中可以看出，喜爱娱乐节目的学生最多，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，据此可以估计这个学校中，喜爱娱乐节目的学生最多，约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．类似地，可以估计这个学校的学生喜爱其他节目的百分比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6" descr="图片3"/>
          <p:cNvPicPr/>
          <p:nvPr/>
        </p:nvPicPr>
        <p:blipFill>
          <a:blip r:embed="rId1"/>
          <a:stretch/>
        </p:blipFill>
        <p:spPr>
          <a:xfrm>
            <a:off x="5111640" y="4919760"/>
            <a:ext cx="22766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4"/>
          <p:cNvSpPr/>
          <p:nvPr/>
        </p:nvSpPr>
        <p:spPr>
          <a:xfrm>
            <a:off x="917640" y="178596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样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最喜爱的电视节目的人数条形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1"/>
          <p:cNvSpPr/>
          <p:nvPr/>
        </p:nvSpPr>
        <p:spPr>
          <a:xfrm>
            <a:off x="954000" y="1049400"/>
            <a:ext cx="67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能用条形图和扇形图来描述表中的数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52"/>
          <p:cNvGraphicFramePr/>
          <p:nvPr/>
        </p:nvGraphicFramePr>
        <p:xfrm>
          <a:off x="853920" y="2565360"/>
          <a:ext cx="6826320" cy="37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2565360"/>
                    <a:ext cx="68263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5"/>
          <p:cNvGraphicFramePr/>
          <p:nvPr/>
        </p:nvGraphicFramePr>
        <p:xfrm>
          <a:off x="873000" y="2471760"/>
          <a:ext cx="6583320" cy="361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2471760"/>
                    <a:ext cx="658332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728640" y="1314360"/>
            <a:ext cx="75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样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最喜爱的电视节目的人数扇形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985680" y="2508120"/>
            <a:ext cx="731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上面抽取样本的过程中，总体中的每一个个体都有相等的机会被抽到，像这样的抽样方法叫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简单随机抽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图片4"/>
          <p:cNvPicPr/>
          <p:nvPr/>
        </p:nvPicPr>
        <p:blipFill>
          <a:blip r:embed="rId1"/>
          <a:stretch/>
        </p:blipFill>
        <p:spPr>
          <a:xfrm>
            <a:off x="817560" y="993600"/>
            <a:ext cx="237636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"/>
          <p:cNvSpPr/>
          <p:nvPr/>
        </p:nvSpPr>
        <p:spPr>
          <a:xfrm>
            <a:off x="763560" y="2097000"/>
            <a:ext cx="779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面调查和抽样调查是收集数据的两种方式．全面调查收集到的数据全面、准确，但一般花费多、耗时长，而且某些调查不宜用全面调查．抽样调查具有花费少、省时的特点，但抽取的样本是否具有代表性，直接关系到对总体估计的准确程度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图片3"/>
          <p:cNvPicPr/>
          <p:nvPr/>
        </p:nvPicPr>
        <p:blipFill>
          <a:blip r:embed="rId1"/>
          <a:stretch/>
        </p:blipFill>
        <p:spPr>
          <a:xfrm>
            <a:off x="727200" y="947880"/>
            <a:ext cx="23763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966960" y="895320"/>
            <a:ext cx="72943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当调查的对象个数较少，调查容易进行时，我们一般采用全面调查的方式进行调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当调查的结果对调查对象具有破坏性，或者会产生一定的危害性时，我们通常采用抽样调查的方式进行调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当调查对象的个数较多，调查不易进行时，我们常采用抽样调查的方式进行调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当调查的结果有特别要求，或调查的结果有特殊意义时，如国家的人口普查，我们仍须采用全面调查的方式进行调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注意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在抽样调查中抽取的样本要具有代表性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9"/>
          <p:cNvSpPr/>
          <p:nvPr/>
        </p:nvSpPr>
        <p:spPr>
          <a:xfrm>
            <a:off x="1249200" y="1955880"/>
            <a:ext cx="670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根据具体情境设计适当的调查方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一步理解抽样调查中样本的代表性与广泛性的重要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三种统计图各自的特点，能根据不同问题选择适当的统计图描述数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历整理简单的数据的过程，体会统计思想，学会用“数据”说理的方法，发展运用简单的统计知识解决一些简单的实际问题的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学习目标"/>
          <p:cNvPicPr/>
          <p:nvPr/>
        </p:nvPicPr>
        <p:blipFill>
          <a:blip r:embed="rId1"/>
          <a:stretch/>
        </p:blipFill>
        <p:spPr>
          <a:xfrm>
            <a:off x="914400" y="939960"/>
            <a:ext cx="2425680" cy="59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106640" y="1557360"/>
            <a:ext cx="708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了制定本市初中七、八、九年级学生校服的生产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关部门准备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初中男生的身高作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有三种调查方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少年体校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男子篮球、排球队员的身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查阅有关外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男生身高的统计资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本市的市区和郊县分别任选一所高级中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所初级中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这六所学校有关年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班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抽签的方法分别选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男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然后测量他们的身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图片4"/>
          <p:cNvPicPr/>
          <p:nvPr/>
        </p:nvPicPr>
        <p:blipFill>
          <a:blip r:embed="rId1"/>
          <a:srcRect l="0" t="0" r="-1590" b="62441"/>
          <a:stretch/>
        </p:blipFill>
        <p:spPr>
          <a:xfrm>
            <a:off x="825480" y="909720"/>
            <a:ext cx="213516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01600" y="2789280"/>
            <a:ext cx="69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: C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理由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:A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所选取的样本太特殊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B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所选取的样本与考察对象无关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,C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抽取的样本比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、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方案更具有代表性和科学性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98480" y="154764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上述三种调查方案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你认为采用哪一种调查方案比较合理？谈谈你的理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47880" y="1849320"/>
            <a:ext cx="62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调查属于全面调查的有：（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00160" y="500364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我们班全体同学的体重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089000" y="36734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央电视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中秋节联欢晚会“您最喜欢的节目”网上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00160" y="3173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乘飞机时，机场对旅客的行李安全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089000" y="248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南大附中全体教师某一周内用电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29440" y="185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735880" y="185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14520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图片4"/>
          <p:cNvPicPr/>
          <p:nvPr/>
        </p:nvPicPr>
        <p:blipFill>
          <a:blip r:embed="rId1"/>
          <a:srcRect l="0" t="64622" r="-2120" b="0"/>
          <a:stretch/>
        </p:blipFill>
        <p:spPr>
          <a:xfrm>
            <a:off x="909720" y="919080"/>
            <a:ext cx="242712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704880" y="2568600"/>
            <a:ext cx="779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地区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电视观众，要想了解他们对新闻、体育、动画、娱乐、戏曲五类电视节目的喜爱情况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能不能用对学生的抽样调查数据去估计整个地区电视观众的情况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如果抽取一个容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样本进行调查，你会怎样调查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问题探究"/>
          <p:cNvPicPr/>
          <p:nvPr/>
        </p:nvPicPr>
        <p:blipFill>
          <a:blip r:embed="rId1"/>
          <a:stretch/>
        </p:blipFill>
        <p:spPr>
          <a:xfrm>
            <a:off x="800280" y="1036800"/>
            <a:ext cx="23144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700200" y="2345040"/>
            <a:ext cx="7203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用对学生的调查数据去估计整个地区观众的情况是不合适的．因为青少年、成年人、老年人喜欢的电视节目往往有明显的不同，所以要了解整个地区电视观众的情况，需要在更大范围内抽取样本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738360" y="3656160"/>
            <a:ext cx="7142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）由于各年龄段对节目的爱好有明显的不同，而同一个年龄段对节目的喜爱又存在共性，因此可以对青少年、成年人、老年人各个人群分别独立地进行简单随机抽样，使每个年龄段都能抽取一定的人数来代表所在的人群，然后汇总调查结果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图片1"/>
          <p:cNvPicPr/>
          <p:nvPr/>
        </p:nvPicPr>
        <p:blipFill>
          <a:blip r:embed="rId1"/>
          <a:stretch/>
        </p:blipFill>
        <p:spPr>
          <a:xfrm>
            <a:off x="771480" y="957240"/>
            <a:ext cx="206208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816120" y="2607480"/>
            <a:ext cx="75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青少年、成年人、老年人的人数比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:5: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则可以按下表抽取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93800" y="3722760"/>
          <a:ext cx="7554960" cy="1279440"/>
        </p:xfrm>
        <a:graphic>
          <a:graphicData uri="http://schemas.openxmlformats.org/drawingml/2006/table">
            <a:tbl>
              <a:tblPr/>
              <a:tblGrid>
                <a:gridCol w="1509840"/>
                <a:gridCol w="1511280"/>
                <a:gridCol w="1512720"/>
                <a:gridCol w="1511280"/>
                <a:gridCol w="1509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青少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年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老年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抽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Picture 23" descr="图片6"/>
          <p:cNvPicPr/>
          <p:nvPr/>
        </p:nvPicPr>
        <p:blipFill>
          <a:blip r:embed="rId1"/>
          <a:stretch/>
        </p:blipFill>
        <p:spPr>
          <a:xfrm>
            <a:off x="781200" y="1027080"/>
            <a:ext cx="241920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1035000" y="2279520"/>
            <a:ext cx="725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清楚地表示出各部分在总体中所占的百分比，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形统计图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折线统计图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扇形统计图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种都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74600" y="474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考查三种统计图的特点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图片3"/>
          <p:cNvPicPr/>
          <p:nvPr/>
        </p:nvPicPr>
        <p:blipFill>
          <a:blip r:embed="rId1"/>
          <a:stretch/>
        </p:blipFill>
        <p:spPr>
          <a:xfrm>
            <a:off x="855720" y="847800"/>
            <a:ext cx="270504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8"/>
          <p:cNvSpPr/>
          <p:nvPr/>
        </p:nvSpPr>
        <p:spPr>
          <a:xfrm>
            <a:off x="1219320" y="1614600"/>
            <a:ext cx="731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了了解某市参加中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 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的体重情况，抽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 6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的体重进行统计分析，下面叙述正确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32 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是总体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1 6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的体重是总体的一个样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名学生是总体的一个个体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调查是普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235160" y="1949400"/>
            <a:ext cx="68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．总体是所要考察对象的全体，从中抽取的一部分个体叫做总体的一个样本．选项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都没有指明具体的调查对象（体重）故不正确，本题调查方式是抽样调查，不是普查，故选项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不正确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974880" y="1127160"/>
            <a:ext cx="771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调查中，适宜采用抽样调查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我市中学生每天体育锻炼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某班学生对“五个重庆”的知晓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一架“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形战机各零部件的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查广州亚运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参赛运动员兴奋剂的使用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81000" y="4195800"/>
            <a:ext cx="64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由于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选项中的数据比较多，所以适宜采用抽样调查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239" t="3597" r="2413" b="14101"/>
          <a:stretch/>
        </p:blipFill>
        <p:spPr>
          <a:xfrm>
            <a:off x="2111400" y="1604880"/>
            <a:ext cx="2600280" cy="175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773600" y="1603440"/>
            <a:ext cx="2521080" cy="174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rcRect l="5984" t="3372" r="5564" b="4767"/>
          <a:stretch/>
        </p:blipFill>
        <p:spPr>
          <a:xfrm>
            <a:off x="944640" y="3778200"/>
            <a:ext cx="2421000" cy="146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rcRect l="1651" t="3402" r="2929" b="4811"/>
          <a:stretch/>
        </p:blipFill>
        <p:spPr>
          <a:xfrm>
            <a:off x="5765760" y="3787920"/>
            <a:ext cx="2059200" cy="1454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rcRect l="3527" t="3780" r="3400" b="1949"/>
          <a:stretch/>
        </p:blipFill>
        <p:spPr>
          <a:xfrm>
            <a:off x="3460680" y="3816360"/>
            <a:ext cx="2195640" cy="1442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288040" y="32529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体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614680" y="32781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794040" y="5265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311120" y="524016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娱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181560" y="5232240"/>
            <a:ext cx="17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戏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WordArt 12" descr=""/>
          <p:cNvPicPr/>
          <p:nvPr/>
        </p:nvPicPr>
        <p:blipFill>
          <a:blip r:embed="rId6"/>
          <a:stretch/>
        </p:blipFill>
        <p:spPr>
          <a:xfrm>
            <a:off x="1036800" y="5626080"/>
            <a:ext cx="662616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图片1"/>
          <p:cNvPicPr/>
          <p:nvPr/>
        </p:nvPicPr>
        <p:blipFill>
          <a:blip r:embed="rId7"/>
          <a:stretch/>
        </p:blipFill>
        <p:spPr>
          <a:xfrm>
            <a:off x="816120" y="860400"/>
            <a:ext cx="249552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770040" y="969840"/>
            <a:ext cx="7966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为了解某初中学校学生的视力情况，需要抽取部分学生进行调查，下列抽取学生的方法最合适的是（    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随机抽取该校一个班级的学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随机抽取该校一个年级的学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随机抽取该校一部分男生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分别从该校初一、初二、初三年级各班中随机抽取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的学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50960" y="4146480"/>
            <a:ext cx="77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依据调查的目的抽取样本时，要求所抽取的样本必须具有广泛性和代表性，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中的抽样方法不具备广泛性，都不能代表整个学校的学生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31960" y="1309680"/>
            <a:ext cx="772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了描述我县城区某一天气温变化情况，应选择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扇形统计图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形统计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折线统计图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直方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95160" y="3997440"/>
            <a:ext cx="77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【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解析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选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折线统计图体现的是数据的变化情况</a:t>
            </a:r>
            <a:r>
              <a:rPr b="1" lang="en-US" sz="24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6_1105584051"/>
          <p:cNvPicPr/>
          <p:nvPr/>
        </p:nvPicPr>
        <p:blipFill>
          <a:blip r:embed="rId1"/>
          <a:srcRect l="72559" t="66586" r="-1796" b="818"/>
          <a:stretch/>
        </p:blipFill>
        <p:spPr>
          <a:xfrm>
            <a:off x="3294000" y="4900680"/>
            <a:ext cx="23162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1284120" y="2071080"/>
            <a:ext cx="724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本课时的学习，我们需要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的收集：调查问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的整理：表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的描述：条形图、扇形图、折线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基本概念： 抽样调查、总体、个体、样本、样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容量、随机抽样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课堂小结"/>
          <p:cNvPicPr/>
          <p:nvPr/>
        </p:nvPicPr>
        <p:blipFill>
          <a:blip r:embed="rId1"/>
          <a:stretch/>
        </p:blipFill>
        <p:spPr>
          <a:xfrm>
            <a:off x="787320" y="919080"/>
            <a:ext cx="244800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WordArt 2" descr=""/>
          <p:cNvPicPr/>
          <p:nvPr/>
        </p:nvPicPr>
        <p:blipFill>
          <a:blip r:embed="rId1"/>
          <a:stretch/>
        </p:blipFill>
        <p:spPr>
          <a:xfrm>
            <a:off x="1938240" y="1878120"/>
            <a:ext cx="4370400" cy="27730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0"/>
          <p:cNvGrpSpPr/>
          <p:nvPr/>
        </p:nvGrpSpPr>
        <p:grpSpPr>
          <a:xfrm>
            <a:off x="333360" y="5894280"/>
            <a:ext cx="7354440" cy="636480"/>
            <a:chOff x="333360" y="5894280"/>
            <a:chExt cx="7354440" cy="636480"/>
          </a:xfrm>
        </p:grpSpPr>
        <p:pic>
          <p:nvPicPr>
            <p:cNvPr id="197" name="Picture 5" descr="花动画图片"/>
            <p:cNvPicPr/>
            <p:nvPr/>
          </p:nvPicPr>
          <p:blipFill>
            <a:blip r:embed="rId2"/>
            <a:stretch/>
          </p:blipFill>
          <p:spPr>
            <a:xfrm>
              <a:off x="3135960" y="5952600"/>
              <a:ext cx="315108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花动画图片"/>
            <p:cNvPicPr/>
            <p:nvPr/>
          </p:nvPicPr>
          <p:blipFill>
            <a:blip r:embed="rId3"/>
            <a:stretch/>
          </p:blipFill>
          <p:spPr>
            <a:xfrm flipH="1">
              <a:off x="3054960" y="5943600"/>
              <a:ext cx="280152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5" descr="花动画图片"/>
            <p:cNvPicPr/>
            <p:nvPr/>
          </p:nvPicPr>
          <p:blipFill>
            <a:blip r:embed="rId4"/>
            <a:stretch/>
          </p:blipFill>
          <p:spPr>
            <a:xfrm>
              <a:off x="333360" y="5932080"/>
              <a:ext cx="3151080" cy="5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" descr="花动画图片"/>
            <p:cNvPicPr/>
            <p:nvPr/>
          </p:nvPicPr>
          <p:blipFill>
            <a:blip r:embed="rId5"/>
            <a:stretch/>
          </p:blipFill>
          <p:spPr>
            <a:xfrm>
              <a:off x="4536720" y="5950080"/>
              <a:ext cx="315108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花动画图片"/>
            <p:cNvPicPr/>
            <p:nvPr/>
          </p:nvPicPr>
          <p:blipFill>
            <a:blip r:embed="rId6"/>
            <a:stretch/>
          </p:blipFill>
          <p:spPr>
            <a:xfrm flipH="1">
              <a:off x="3054960" y="5943600"/>
              <a:ext cx="280152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花动画图片"/>
            <p:cNvPicPr/>
            <p:nvPr/>
          </p:nvPicPr>
          <p:blipFill>
            <a:blip r:embed="rId7"/>
            <a:stretch/>
          </p:blipFill>
          <p:spPr>
            <a:xfrm flipH="1">
              <a:off x="522000" y="5894280"/>
              <a:ext cx="279036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5" descr="花动画图片"/>
            <p:cNvPicPr/>
            <p:nvPr/>
          </p:nvPicPr>
          <p:blipFill>
            <a:blip r:embed="rId8"/>
            <a:stretch/>
          </p:blipFill>
          <p:spPr>
            <a:xfrm>
              <a:off x="4536720" y="5950080"/>
              <a:ext cx="3151080" cy="578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7080" y="189108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骤一：收集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35120" y="2492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计调查问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722160" y="329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调查问卷   年 月 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3973680"/>
          <a:ext cx="7993080" cy="1627200"/>
        </p:xfrm>
        <a:graphic>
          <a:graphicData uri="http://schemas.openxmlformats.org/drawingml/2006/table">
            <a:tbl>
              <a:tblPr/>
              <a:tblGrid>
                <a:gridCol w="1281240"/>
                <a:gridCol w="6711840"/>
              </a:tblGrid>
              <a:tr h="108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姓 名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在下面五类电视节目中，你最喜爱的是（  ）（单选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A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新闻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B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体育 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C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动画 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D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娱乐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E.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  <a:ea typeface="宋体"/>
                        </a:rPr>
                        <a:t>戏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Line 16"/>
          <p:cNvSpPr/>
          <p:nvPr/>
        </p:nvSpPr>
        <p:spPr>
          <a:xfrm>
            <a:off x="2906640" y="2741760"/>
            <a:ext cx="60984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614760" y="2514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填写调查问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6453360" y="2521080"/>
            <a:ext cx="20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收集调查问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754600" y="2763720"/>
            <a:ext cx="60984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0" descr="图片2"/>
          <p:cNvPicPr/>
          <p:nvPr/>
        </p:nvPicPr>
        <p:blipFill>
          <a:blip r:embed="rId1"/>
          <a:stretch/>
        </p:blipFill>
        <p:spPr>
          <a:xfrm>
            <a:off x="800280" y="797040"/>
            <a:ext cx="2695320" cy="69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723960" y="727200"/>
            <a:ext cx="396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骤二：整理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95160" y="809640"/>
            <a:ext cx="27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157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计统计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978280" y="1836720"/>
            <a:ext cx="99036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889440" y="156996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257480" y="2306520"/>
            <a:ext cx="61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全班同学最喜爱的电视节目的人数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6939000" y="2001960"/>
            <a:ext cx="1676520" cy="685800"/>
            <a:chOff x="6939000" y="2001960"/>
            <a:chExt cx="1676520" cy="685800"/>
          </a:xfrm>
        </p:grpSpPr>
        <p:sp>
          <p:nvSpPr>
            <p:cNvPr id="76" name="AutoShape 9"/>
            <p:cNvSpPr/>
            <p:nvPr/>
          </p:nvSpPr>
          <p:spPr>
            <a:xfrm>
              <a:off x="6939000" y="2001960"/>
              <a:ext cx="1676520" cy="6858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0"/>
            <p:cNvSpPr/>
            <p:nvPr/>
          </p:nvSpPr>
          <p:spPr>
            <a:xfrm>
              <a:off x="7164720" y="2140200"/>
              <a:ext cx="11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表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>
            <a:off x="7815240" y="2786040"/>
            <a:ext cx="914400" cy="685800"/>
          </a:xfrm>
          <a:prstGeom prst="wedgeEllipseCallout">
            <a:avLst>
              <a:gd name="adj1" fmla="val -89236"/>
              <a:gd name="adj2" fmla="val 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2"/>
          <p:cNvGrpSpPr/>
          <p:nvPr/>
        </p:nvGrpSpPr>
        <p:grpSpPr>
          <a:xfrm>
            <a:off x="411840" y="2038680"/>
            <a:ext cx="1095480" cy="959040"/>
            <a:chOff x="411840" y="2038680"/>
            <a:chExt cx="1095480" cy="959040"/>
          </a:xfrm>
        </p:grpSpPr>
        <p:sp>
          <p:nvSpPr>
            <p:cNvPr id="80" name="AutoShape 13"/>
            <p:cNvSpPr/>
            <p:nvPr/>
          </p:nvSpPr>
          <p:spPr>
            <a:xfrm flipV="1" rot="1343400">
              <a:off x="503280" y="2187360"/>
              <a:ext cx="912240" cy="661320"/>
            </a:xfrm>
            <a:prstGeom prst="wedgeEllipseCallout">
              <a:avLst>
                <a:gd name="adj1" fmla="val 35601"/>
                <a:gd name="adj2" fmla="val -7024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4"/>
            <p:cNvSpPr/>
            <p:nvPr/>
          </p:nvSpPr>
          <p:spPr>
            <a:xfrm rot="1344000">
              <a:off x="738360" y="2265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" name=""/>
          <p:cNvGraphicFramePr/>
          <p:nvPr/>
        </p:nvGraphicFramePr>
        <p:xfrm>
          <a:off x="822240" y="2919240"/>
          <a:ext cx="6910560" cy="3184560"/>
        </p:xfrm>
        <a:graphic>
          <a:graphicData uri="http://schemas.openxmlformats.org/drawingml/2006/table">
            <a:tbl>
              <a:tblPr/>
              <a:tblGrid>
                <a:gridCol w="1736640"/>
                <a:gridCol w="2267280"/>
                <a:gridCol w="1555560"/>
                <a:gridCol w="13510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节目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划 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人 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百分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A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新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B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体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C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动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D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娱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E.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戏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57"/>
          <p:cNvSpPr/>
          <p:nvPr/>
        </p:nvSpPr>
        <p:spPr>
          <a:xfrm>
            <a:off x="3762360" y="3479760"/>
            <a:ext cx="889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9"/>
          <p:cNvGrpSpPr/>
          <p:nvPr/>
        </p:nvGrpSpPr>
        <p:grpSpPr>
          <a:xfrm>
            <a:off x="3319560" y="3473280"/>
            <a:ext cx="1136520" cy="2027160"/>
            <a:chOff x="3319560" y="3473280"/>
            <a:chExt cx="1136520" cy="2027160"/>
          </a:xfrm>
        </p:grpSpPr>
        <p:pic>
          <p:nvPicPr>
            <p:cNvPr id="85" name="Picture 60" descr=""/>
            <p:cNvPicPr/>
            <p:nvPr/>
          </p:nvPicPr>
          <p:blipFill>
            <a:blip r:embed="rId1"/>
            <a:stretch/>
          </p:blipFill>
          <p:spPr>
            <a:xfrm>
              <a:off x="3656160" y="5276520"/>
              <a:ext cx="19692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61" descr=""/>
            <p:cNvPicPr/>
            <p:nvPr/>
          </p:nvPicPr>
          <p:blipFill>
            <a:blip r:embed="rId2"/>
            <a:stretch/>
          </p:blipFill>
          <p:spPr>
            <a:xfrm>
              <a:off x="3643560" y="3473280"/>
              <a:ext cx="215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2"/>
            <p:cNvSpPr/>
            <p:nvPr/>
          </p:nvSpPr>
          <p:spPr>
            <a:xfrm>
              <a:off x="3441960" y="3776400"/>
              <a:ext cx="60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正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63"/>
            <p:cNvSpPr/>
            <p:nvPr/>
          </p:nvSpPr>
          <p:spPr>
            <a:xfrm>
              <a:off x="3380040" y="4211640"/>
              <a:ext cx="107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正正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64"/>
            <p:cNvGrpSpPr/>
            <p:nvPr/>
          </p:nvGrpSpPr>
          <p:grpSpPr>
            <a:xfrm>
              <a:off x="3319560" y="4633920"/>
              <a:ext cx="1076400" cy="459000"/>
              <a:chOff x="3319560" y="4633920"/>
              <a:chExt cx="1076400" cy="459000"/>
            </a:xfrm>
          </p:grpSpPr>
          <p:pic>
            <p:nvPicPr>
              <p:cNvPr id="90" name="Picture 65" descr=""/>
              <p:cNvPicPr/>
              <p:nvPr/>
            </p:nvPicPr>
            <p:blipFill>
              <a:blip r:embed="rId3"/>
              <a:stretch/>
            </p:blipFill>
            <p:spPr>
              <a:xfrm>
                <a:off x="4035600" y="4792680"/>
                <a:ext cx="22212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Text Box 66"/>
              <p:cNvSpPr/>
              <p:nvPr/>
            </p:nvSpPr>
            <p:spPr>
              <a:xfrm>
                <a:off x="3319560" y="4633920"/>
                <a:ext cx="1076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正正正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67"/>
          <p:cNvGrpSpPr/>
          <p:nvPr/>
        </p:nvGrpSpPr>
        <p:grpSpPr>
          <a:xfrm>
            <a:off x="5295960" y="3184560"/>
            <a:ext cx="712800" cy="2864160"/>
            <a:chOff x="5295960" y="3184560"/>
            <a:chExt cx="712800" cy="2864160"/>
          </a:xfrm>
        </p:grpSpPr>
        <p:sp>
          <p:nvSpPr>
            <p:cNvPr id="93" name="Text Box 68"/>
            <p:cNvSpPr/>
            <p:nvPr/>
          </p:nvSpPr>
          <p:spPr>
            <a:xfrm>
              <a:off x="5391360" y="3184560"/>
              <a:ext cx="457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69"/>
            <p:cNvSpPr/>
            <p:nvPr/>
          </p:nvSpPr>
          <p:spPr>
            <a:xfrm>
              <a:off x="5310360" y="3668760"/>
              <a:ext cx="685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0"/>
            <p:cNvSpPr/>
            <p:nvPr/>
          </p:nvSpPr>
          <p:spPr>
            <a:xfrm>
              <a:off x="5322960" y="4125960"/>
              <a:ext cx="685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1"/>
            <p:cNvSpPr/>
            <p:nvPr/>
          </p:nvSpPr>
          <p:spPr>
            <a:xfrm>
              <a:off x="5295960" y="4597560"/>
              <a:ext cx="604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72"/>
            <p:cNvSpPr/>
            <p:nvPr/>
          </p:nvSpPr>
          <p:spPr>
            <a:xfrm>
              <a:off x="5391360" y="5068800"/>
              <a:ext cx="388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73"/>
            <p:cNvSpPr/>
            <p:nvPr/>
          </p:nvSpPr>
          <p:spPr>
            <a:xfrm>
              <a:off x="5322960" y="5497560"/>
              <a:ext cx="525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74"/>
          <p:cNvGrpSpPr/>
          <p:nvPr/>
        </p:nvGrpSpPr>
        <p:grpSpPr>
          <a:xfrm>
            <a:off x="6615000" y="3238560"/>
            <a:ext cx="942840" cy="2810160"/>
            <a:chOff x="6615000" y="3238560"/>
            <a:chExt cx="942840" cy="2810160"/>
          </a:xfrm>
        </p:grpSpPr>
        <p:sp>
          <p:nvSpPr>
            <p:cNvPr id="100" name="Text Box 75"/>
            <p:cNvSpPr/>
            <p:nvPr/>
          </p:nvSpPr>
          <p:spPr>
            <a:xfrm>
              <a:off x="6750000" y="3238560"/>
              <a:ext cx="511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8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6"/>
            <p:cNvSpPr/>
            <p:nvPr/>
          </p:nvSpPr>
          <p:spPr>
            <a:xfrm>
              <a:off x="6735600" y="3722760"/>
              <a:ext cx="64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2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7"/>
            <p:cNvSpPr/>
            <p:nvPr/>
          </p:nvSpPr>
          <p:spPr>
            <a:xfrm>
              <a:off x="6710400" y="4127400"/>
              <a:ext cx="739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8"/>
            <p:cNvSpPr/>
            <p:nvPr/>
          </p:nvSpPr>
          <p:spPr>
            <a:xfrm>
              <a:off x="6724440" y="4583160"/>
              <a:ext cx="64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3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9"/>
            <p:cNvSpPr/>
            <p:nvPr/>
          </p:nvSpPr>
          <p:spPr>
            <a:xfrm>
              <a:off x="6789600" y="5027760"/>
              <a:ext cx="577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0"/>
            <p:cNvSpPr/>
            <p:nvPr/>
          </p:nvSpPr>
          <p:spPr>
            <a:xfrm>
              <a:off x="6615000" y="5497560"/>
              <a:ext cx="94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10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64960" y="133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班同学最喜爱的电视节目的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71480" y="1027800"/>
            <a:ext cx="41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骤三：描述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1071720" y="2357280"/>
          <a:ext cx="68911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357280"/>
                    <a:ext cx="68911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55480" y="104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班同学最喜爱的电视节目的扇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1263600" y="2057400"/>
          <a:ext cx="6365880" cy="34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057400"/>
                    <a:ext cx="63658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703440" y="2270160"/>
            <a:ext cx="76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这次调查中，全班同学是要考察的全体对象，我们对全体对象都进行了调查，像这样考察全体对象的调查叫做全面调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2120" y="4038480"/>
            <a:ext cx="72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你还能举出生活中全面调查的实例吗？与同伴交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图片4"/>
          <p:cNvPicPr/>
          <p:nvPr/>
        </p:nvPicPr>
        <p:blipFill>
          <a:blip r:embed="rId1"/>
          <a:stretch/>
        </p:blipFill>
        <p:spPr>
          <a:xfrm>
            <a:off x="784080" y="993600"/>
            <a:ext cx="2376720" cy="6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712800" y="2484360"/>
            <a:ext cx="783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校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名学生，要想了解全校学生对新闻、体育、动画、娱乐、戏曲五类电视节目的喜爱情况，怎样进行调查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660240" y="4027320"/>
            <a:ext cx="4309920" cy="1241280"/>
            <a:chOff x="660240" y="4027320"/>
            <a:chExt cx="4309920" cy="1241280"/>
          </a:xfrm>
        </p:grpSpPr>
        <p:sp>
          <p:nvSpPr>
            <p:cNvPr id="118" name="AutoShape 6"/>
            <p:cNvSpPr/>
            <p:nvPr/>
          </p:nvSpPr>
          <p:spPr>
            <a:xfrm>
              <a:off x="660240" y="4027320"/>
              <a:ext cx="4309920" cy="124128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1240560" y="4276080"/>
              <a:ext cx="306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全面调查费时费力，有没有更好的方法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4979880" y="4191120"/>
            <a:ext cx="3732120" cy="1241280"/>
            <a:chOff x="4979880" y="4191120"/>
            <a:chExt cx="3732120" cy="1241280"/>
          </a:xfrm>
        </p:grpSpPr>
        <p:sp>
          <p:nvSpPr>
            <p:cNvPr id="121" name="AutoShape 10"/>
            <p:cNvSpPr/>
            <p:nvPr/>
          </p:nvSpPr>
          <p:spPr>
            <a:xfrm>
              <a:off x="4979880" y="4191120"/>
              <a:ext cx="3677040" cy="1241280"/>
            </a:xfrm>
            <a:prstGeom prst="cloudCallout">
              <a:avLst>
                <a:gd name="adj1" fmla="val 33490"/>
                <a:gd name="adj2" fmla="val 7966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5366160" y="4552920"/>
              <a:ext cx="33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可以进行抽样调查啊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9" descr="问题探究"/>
          <p:cNvPicPr/>
          <p:nvPr/>
        </p:nvPicPr>
        <p:blipFill>
          <a:blip r:embed="rId1"/>
          <a:stretch/>
        </p:blipFill>
        <p:spPr>
          <a:xfrm>
            <a:off x="777960" y="1025640"/>
            <a:ext cx="231444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0:33:03Z</dcterms:created>
  <dc:creator> </dc:creator>
  <dc:description> </dc:description>
  <cp:keywords/>
  <dc:language>en-US</dc:language>
  <cp:lastModifiedBy>微软用户</cp:lastModifiedBy>
  <dcterms:modified xsi:type="dcterms:W3CDTF">2014-09-20T01:19:37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